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60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move the slide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D4D8-9591-45FB-A603-C18B8A9A4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8yuihior9fuifvhijfehvhgfqerhgvqeivghkdfjhgvkdjhfvkjdfhvbkjfvjdfjkfbhohfqwuhfiwgfhwgdfvuhfuhqjsdgfiqwjfqjwghefphjfvpq;fhqjfghpqiwuhfpkqsjgfhqiwefghjiqwpjrghfpihfqgou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e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uerg qieyurgoirhgieurhgqeiurghqeijrgm,hkfhk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D25-4C5A-4F40-A89A-1952CCCC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415-70AB-408B-80F7-DBA61717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CB6-899E-48C2-A3CD-7A30DD93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890-73A0-4839-BE59-F614B436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578F-F48F-4692-91D7-954879CE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544B-3C07-4B17-8B89-4669023F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7AD-4A55-4853-A862-877F1D94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4F75-FBE2-4A0D-A728-3AABBED8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C56-CC92-45B1-A496-62615DD6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2F1-8E15-4651-BE0E-C34FF9D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87EF-643E-44CC-9473-DB4A59C4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2E7-81DC-478C-893F-D67776D7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0EE-B8DA-47B4-9774-C8FAC945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165B-72D7-4429-A2FB-67F111FA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8021-185D-44B8-B470-9C809C05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22F7-1150-4B94-B7EE-D689E7B4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7945-40A3-4953-A4D4-5EA42ACA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9C8-CBD1-4285-8098-261BD35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E63-BAC7-4557-A3E0-6637ECD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C99-5C9B-47DE-900B-64C32FDA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B87-901F-47EA-A8CE-235B3AE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D67-AAE3-4D7F-B3DB-2A58531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E5D-9C49-4CD3-BBDC-E5163FD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4DB-1E1F-404A-83FC-DFCF6DCB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FE1-C399-4C86-B32E-C542FB9F5246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DEAF-8AFC-4376-99AE-674B803D3AF0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log.westervillelibrary.org/teens/?p=348" TargetMode="External"/><Relationship Id="rId3" Type="http://schemas.openxmlformats.org/officeDocument/2006/relationships/hyperlink" Target="http://www2.scholastic.com/browse/collateral.jsp?id=31199_type=Book_typeId=3686" TargetMode="External"/><Relationship Id="rId4" Type="http://schemas.openxmlformats.org/officeDocument/2006/relationships/hyperlink" Target="http://www.fantasticfiction.co.uk/k/gordon-korman/schooled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90920" y="5181480"/>
            <a:ext cx="37591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Gordon Ko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400" y="1600200"/>
            <a:ext cx="48261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No More Dead Do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19520" y="2743200"/>
            <a:ext cx="2590560" cy="1943280"/>
          </a:xfrm>
          <a:prstGeom prst="rect">
            <a:avLst/>
          </a:prstGeom>
          <a:ln w="76320">
            <a:solidFill>
              <a:srgbClr val="00a800"/>
            </a:solidFill>
            <a:miter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haracter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553440" cy="5181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Wallence Boss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Rick too nast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Feather funn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Steve also boss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Racheal nervous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rudi has lots of friends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Vito thinks he knows everything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Leticia nutt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Kelly wants to be perfect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Parker thinks she’s coo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Mr. Folgerman is nice and wants everything perfect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etting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otball Field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chool Gym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Mrs.Wallence’s House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990720"/>
            <a:ext cx="3048120" cy="202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666880" cy="179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895480" y="40384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http://www.3dlinks.com/galleryDisplay.cfm?artistid=5004&amp;orderby=rank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Problem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Wallence thinks the act is so boring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e dog explodes and makes mess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Mr. Folgerman changed the lines and they forgot them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1.Main even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at Wallence doesn’t want to act,but after rehearsal he liked i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2.main even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At the play the dog(stuffed animal) exploded and Trudi said the play must go on so Vito the dog had to take its place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Author’s Messag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work with others as a team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2562120" cy="320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567400" y="5638680"/>
            <a:ext cx="37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http://www.gordonkorman.com/biograph.htmc</a:t>
            </a: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 spd="slow" advTm="10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AUTHOR’S BIBLIOGRAPHY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163044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86200" y="1600200"/>
            <a:ext cx="142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715000" y="2590920"/>
            <a:ext cx="2155680" cy="281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7760" y="167652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N OF THE MOB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5400" y="373392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EREST THE CONTES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571500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VE: BOOK 2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Web Resource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blog.westervillelibrary.org/teens/?p=348</a:t>
            </a:r>
            <a:endParaRPr b="0" lang="en-US" sz="18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763560" y="2286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7240" y="213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5146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2.scholastic.com/browse/collateral.jsp?id=31199_type=Book_typeId=3686vv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657600"/>
            <a:ext cx="655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http://www.fantasticfiction.co.uk/k/gordon-korman/schooled.htm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http://www.survival-spot.com/survival-blog/choosing-a-survival-dog/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24:53Z</dcterms:created>
  <dc:creator>D83  User</dc:creator>
  <dc:description/>
  <dc:language>en-US</dc:language>
  <cp:lastModifiedBy>D83  User</cp:lastModifiedBy>
  <dcterms:modified xsi:type="dcterms:W3CDTF">2011-03-21T18:57:19Z</dcterms:modified>
  <cp:revision>15</cp:revision>
  <dc:subject/>
  <dc:title>PowerPoint Presentation</dc:title>
</cp:coreProperties>
</file>